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4A9-9941-4826-9DB3-54111B3B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B95-676B-46CC-8E23-819B295F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CF1-10DB-4ADB-A3A3-0B34F03A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448-D71A-45AE-B36B-71409D21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9185-2454-4B7C-A792-6617ACC7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0E00-87A9-491C-83B3-4AA34B35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B5DD-717E-4F42-8938-53BA2D9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D55-E3F7-4F6C-B24D-8C5DDFA3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83F8-E207-4855-BEE0-0CB05FEA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0CCD-1D20-49EF-BF3A-DF06461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9B2-CFB8-4EAE-9D55-079FEE7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333-EBEF-411C-9E89-C5D982C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4DF1-6A03-4097-8A47-72D87AD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AEA5-F9CF-487C-96E4-1F84078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59F4-D0CA-4269-B15D-AC5A770B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FE77-0227-40FD-A85D-1D4F107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6FA7-C210-4970-A7B8-4993D231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5FA3-F958-4BD2-9506-80D5D036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124C-2CC1-4843-99CF-493478A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C1DA-F163-43E8-8639-3A1536D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A596-313A-4655-8D2E-03F83631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0740-2A21-4539-9F9C-D3D3619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95B-396F-4DB8-8855-4E68D6A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1A11-22FE-4D12-A324-4D14D3C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0B93-073B-4817-A6B1-6AD255C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264C-7703-4630-B12C-DB61ADC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6902-96DF-4F53-9DCC-4D8873C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A0DF-DC8B-4648-B26B-8224FAE0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41F7-7E09-448D-842C-B639F83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3A69-31ED-4BA2-AA2C-7DE023E0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2621-36F8-4704-84A5-999A126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2217-3EF7-4E5E-A9D7-81411DC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DDE51-A41D-4CAF-978B-CC5E656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0D0-63F4-4E1A-8A28-C187810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DEBA3-B231-44F1-9CA2-1867843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AF62-36EB-4553-9DAC-831D59C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ADA4-2AE3-439E-938E-28DA603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1E4D-4ECD-478E-B69B-C124CB6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C2FF-E089-43AB-8E98-4F9E34F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7A41-442F-429D-AB11-A51438B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C99D-99D6-4B44-A394-10C8E89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56D9-8BB1-4682-96E2-A934505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71A8-A9D5-4647-AD1D-4B2E1EFD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F627-578D-4DEA-AA4A-0745E96A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913-7B79-4410-AEC5-FB4E396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B9F2-722F-4F57-9062-C52C0F1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BBA26-4CF8-49F5-81E7-CB56413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7965-3821-4384-A52D-175DB860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B0AD-AA8F-4962-8CF4-2542AE6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8EFA-B7FC-4A80-8F19-FB1DF30C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0A82-181F-448B-A3C8-62E3AB5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AAAB-5F5C-4FFE-9200-CB1ED00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E81E-A21E-4E38-8B33-99C90F0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619C-5D43-4ED3-BFC9-95D8E41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D18C-3B76-427B-BF58-9EE4F41A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218-73CD-488C-9D60-3B902DC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F7D3-B65E-4FE4-BD80-2A6444C9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8EC-1CB1-47A3-9668-9985E879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7E7-FBA5-48AE-B47A-5D673AC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4E7-A818-4BD3-B36B-AD806D4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FF0-D9DE-44D6-BA9C-01893079D5F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14A5-FE47-457E-8D77-C79E8D43EAB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B08D-55BF-4E47-AE79-0DE74889E9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1C1-09F1-4ECD-A724-4EB0A5465E8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590-482C-44B9-A2BB-2F88D0EADC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FACULTAD DE CIENCIAS SOCIALES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RERA SOCIOLOGÍA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DAD 5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Las relaciones sociales desde la perspectiva de las institucione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72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82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TOMEMOS EL ESQUEMA EXPUESTO Y VEMOS LOS TÉRMINOS PARA EL ANÁLISIS DE LAS RELACIONES SOCIALES, DESDE LAS INSTITUCIONE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197000"/>
          <a:ext cx="8785080" cy="5452920"/>
        </p:xfrm>
        <a:graphic>
          <a:graphicData uri="http://schemas.openxmlformats.org/drawingml/2006/table">
            <a:tbl>
              <a:tblPr/>
              <a:tblGrid>
                <a:gridCol w="2143080"/>
                <a:gridCol w="2212920"/>
                <a:gridCol w="2214720"/>
                <a:gridCol w="221436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SMA /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O DE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TE DEL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e intercambio, jerarquías, pod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, motivo, prácticas concret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s, reglas, valores, convenciones, ro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FASIS EXPLIC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ominantes y de domin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ensión del sentido de la acción // grado de ra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dad reguladora y (dis) fu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del “orden social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alización (reglas, valores y creenci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CU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ácter constrictivo y habilit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(no) esper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o 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itimidad / (no) apropi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1.- Para Douglas Nort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rol de las instituciones es reducir la incertidumbre propia de la interacción huma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hay nada que señale que las instituciones deben ser “eficient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preciso distinguir entre instituciones y organismos (organizaciones). Las organizaciones conforman “grupos de individuos enlazados por alguna identidad común hacia el logro de ciertos objetivos”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ambio institucional deviene de la relación entre instituciones y organizaciones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North Douglas, 2006: 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45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.- Peter Wagn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Conjunto relativamente permanente de reglas y de recursos que los hombres pueden tomar como punto de referencia de sus acciones. Las instituciones pueden preceder a cada uno de los individuos concretos, pero han sido creadas en virtud de las acciones humanas y sólo pueden seguir existiendo cuando son continuamente recreadas mediante nuevas ac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Se trata de prácticas ya convertidas en hábitos, cuyos acuerdos se transmiten a través de interacciones, básicamente a través de los procesos de la educación y la socialización, pero también a través de las restantes prácticas cotidianas…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Los hombres disponen de la capacidad básica de aducir las causas de sus actos y de modificar tanto las motivaciones como las acciones. Actúan siempre creadoramente y trabajan con las reglas y los recursos de las instituciones, al mismo tiempo que las modifican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(Sociología de la Modernidad, 1997: 55-5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.- W.R. SCO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LAS INSTITUCIONES SE COMPONEN DE ELEMENTOS CULTURALES-COGNITIVOS, NORMATIVOS Y REGULATIVOS QUE, JUNTO CON ACTIVIDADES ASOCIADAS Y RECURSOS, PROVEEN ESTABILIDAD Y SENTIDO A LA VIDA SOC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SON TRANSMITIDAS POR VARIOS TIPOS DE CANALES, INCLUIDOS LOS SISTEMAS SIMBÓLICOS, RELACIONES DE SISTEMAS, RUTINAS Y ARTEFA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OPERAN EN MÚLTIPLES NIVELES DE JURISDICCIÓN, DESDE EL SISTEMA MUNDIAL A LAS RELACIONES INTERPERSONALES LOCALIZ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POR DEFINICIÓN CONNOTAN ESTABILIDAD PERO SON SUJETO DE PROCESOS DE CAMBIO. YA SEA INCREMENTALES O DISCONTINUO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INSTITUTIONS AND ORGANIZATIONS, 2002, P. 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definiciones de “institución” otorgadas por D. North, P. Wagner y WR Scott dicen relación con: 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atrones de interacción que posibilitan, estabilizan, la vida social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1 Título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508960" cy="1414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9780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alidad social, la representación social de la realidad conforma, en sí misma, un ámbito específ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3 Rectángulo"/>
          <p:cNvSpPr/>
          <p:nvPr/>
        </p:nvSpPr>
        <p:spPr>
          <a:xfrm>
            <a:off x="1042920" y="3429000"/>
            <a:ext cx="6985080" cy="12952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realidad social se constituye en forma simbólica. Esto es, está conformada y mediada por símbolo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4 Rectángulo"/>
          <p:cNvSpPr/>
          <p:nvPr/>
        </p:nvSpPr>
        <p:spPr>
          <a:xfrm>
            <a:off x="1042920" y="5373720"/>
            <a:ext cx="31687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SE PROCESO – RESULTADO TIENE IIMPLICANCIAS EN LAS PRÁCTICA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5 Rectángulo"/>
          <p:cNvSpPr/>
          <p:nvPr/>
        </p:nvSpPr>
        <p:spPr>
          <a:xfrm>
            <a:off x="4716360" y="5373720"/>
            <a:ext cx="33116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 SÓLO SE “NUTRE” DE SÍMBOLOS, IDEAS, NOCIONE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7 Conector recto de flecha"/>
          <p:cNvCxnSpPr>
            <a:stCxn id="294" idx="2"/>
            <a:endCxn id="295" idx="0"/>
          </p:cNvCxnSpPr>
          <p:nvPr/>
        </p:nvCxnSpPr>
        <p:spPr>
          <a:xfrm flipH="1">
            <a:off x="2626560" y="4724280"/>
            <a:ext cx="190908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298" name="9 Conector recto de flecha"/>
          <p:cNvCxnSpPr>
            <a:stCxn id="294" idx="2"/>
            <a:endCxn id="296" idx="0"/>
          </p:cNvCxnSpPr>
          <p:nvPr/>
        </p:nvCxnSpPr>
        <p:spPr>
          <a:xfrm>
            <a:off x="4535640" y="4724280"/>
            <a:ext cx="183744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cutamos estos a la luz del “Teorema de Thomas” (enunciado por el sociólogo norteamericano W.I. Thomas, en 19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 las personas definen las situaciones como reales, éstas son reales en sus consecuencias … 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1 Rectángulo"/>
          <p:cNvSpPr/>
          <p:nvPr/>
        </p:nvSpPr>
        <p:spPr>
          <a:xfrm>
            <a:off x="1763640" y="4653000"/>
            <a:ext cx="5688000" cy="12272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¿QUÉ RELACIÓN PODEMOS ESTABLECER ENTRE ESTA IDEA Y EL CONCEPTO DE INSTITUCIÓN QUE ESTAMOS TRABAJAN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3 Flecha abajo"/>
          <p:cNvSpPr/>
          <p:nvPr/>
        </p:nvSpPr>
        <p:spPr>
          <a:xfrm>
            <a:off x="4365720" y="3716280"/>
            <a:ext cx="484200" cy="576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Muy bi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ero si la forma en que percibimos, la forma en que pensamos, la manera en que “hacemos las cosas”, incluso las formas en que emocionamos, cambian (¿?)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¿Cómo explicar ese cambio en las representaciones sociales, en las instituciones, dada su capacidad para configurar “realidad” y dado su peso, su inerc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qué relación guarda esto con las “relaciones socia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8:29:10Z</dcterms:created>
  <dc:creator>Juan Enrique Opazo</dc:creator>
  <dc:description/>
  <dc:language>en-US</dc:language>
  <cp:lastModifiedBy>Juan Enrique</cp:lastModifiedBy>
  <dcterms:modified xsi:type="dcterms:W3CDTF">2014-06-25T15:48:59Z</dcterms:modified>
  <cp:revision>629</cp:revision>
  <dc:subject/>
  <dc:title>UAH</dc:title>
</cp:coreProperties>
</file>